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zorro-short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433-09F2-4009-84F9-E31544ED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8B8-B509-4008-BE4E-AC05E451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51B-E66E-4FAE-954F-405E64813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E141-8C59-4EFC-8ECA-CEFB74BC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EF5-54C9-4C3C-A61A-F145B859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7EC-2323-44AC-9CDC-48881B18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6EA-CFA0-4693-A173-1C537C57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C10-FF81-4A6F-880D-E9027AC6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CA6-4671-40BB-865D-760130E9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154-1108-4197-86C9-07F0F364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1F6-0A38-4179-9DBD-9329E708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236B-C5E8-40AD-B2A3-E4B8E8B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9258-E11B-46E1-AC67-946DC08AF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zorro-short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%20Roll%20(snare).wa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le Class Review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1143000"/>
            <a:ext cx="6934320" cy="2590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eel of Fortu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590560" cy="2406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2" name="zorro-shor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 each student an index card with a number from 1-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are instructed to write a review question, math problem, or spelling word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he Spin Butt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 wheel hits the number on the index card, the student chooses who will receive the question on their c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4344000">
            <a:off x="5714640" y="182880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968000">
            <a:off x="5181480" y="12952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8912400">
            <a:off x="502884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371800">
            <a:off x="4114440" y="12193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5274200">
            <a:off x="3429000" y="251388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734200">
            <a:off x="3581280" y="17524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2715200">
            <a:off x="3962520" y="319968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20070000">
            <a:off x="4114800" y="1294920"/>
            <a:ext cx="838080" cy="2514600"/>
          </a:xfrm>
          <a:prstGeom prst="upArrow">
            <a:avLst>
              <a:gd name="adj1" fmla="val 50000"/>
              <a:gd name="adj2" fmla="val 75011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14400" y="0"/>
            <a:ext cx="7848720" cy="6858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462480"/>
            <a:ext cx="78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28800" y="1371600"/>
            <a:ext cx="617220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980720" y="1066680"/>
            <a:ext cx="5715000" cy="4648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609480"/>
            <a:ext cx="1295640" cy="1295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609480"/>
            <a:ext cx="1295640" cy="129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2057400"/>
            <a:ext cx="12952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34320" y="3657600"/>
            <a:ext cx="1295280" cy="12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4876920"/>
            <a:ext cx="129528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4876920"/>
            <a:ext cx="1295280" cy="12952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3581280"/>
            <a:ext cx="12952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1981080"/>
            <a:ext cx="129564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6499800">
            <a:off x="5485680" y="2514240"/>
            <a:ext cx="838440" cy="251460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  <a:hlinkClick r:id="rId1"/>
          </p:cNvPr>
          <p:cNvSpPr/>
          <p:nvPr/>
        </p:nvSpPr>
        <p:spPr>
          <a:xfrm>
            <a:off x="76320" y="57150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14:24:23Z</dcterms:created>
  <dc:creator>Connie Campbell</dc:creator>
  <dc:description/>
  <dc:language>en-US</dc:language>
  <cp:lastModifiedBy>Connie Campbell</cp:lastModifiedBy>
  <dcterms:modified xsi:type="dcterms:W3CDTF">2006-02-20T23:01:23Z</dcterms:modified>
  <cp:revision>6</cp:revision>
  <dc:subject/>
  <dc:title>Wheel of Fortune</dc:title>
</cp:coreProperties>
</file>